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74EF2-A049-4DC1-94F9-D518613AC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14522-D2D1-48DC-ACBB-42DD9FB86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C6177-6ED8-4513-ACEE-6CD5F0ECE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F9679-A0B3-4D6D-85D7-6826A08E3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FDDC0-1B27-42A3-9CC5-15F5F7EBB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16471-F209-4093-9335-BBB14974A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EB311-3668-4645-8210-4507462FF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63A0A-3AB9-4B3D-8658-40FB3CE09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C56DA-C5FA-4D66-B2DB-13DC69DDF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24CAF-C3D4-46D4-808B-679A62E2F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A63BE-552C-4171-9562-430CB73D7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FB02C-2F29-440A-BC10-A3C571DEC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5C42B-6A3D-40DE-B13F-5DF442A65F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code.google.com/p/protobuf/" TargetMode="External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s://cf-pcmdi.llnl.gov/trac/" TargetMode="External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http://research.microsoft.com/research/pubs/view.aspx?tr_id=860" TargetMode="External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int Da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DM Point Feature AP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FeatureDataset fd =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FeatureDatasetFactoryManager.ope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FeatureType.STATION, location, null, log)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FeatureCollection fc =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fd.getPointFeatureCollectionLis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().get(0)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tationCollection timeSeriesCollection = (StationCollection) fc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ointFeatureCollection points =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timeSeriesCollection.flatte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LatLonRect( new LatLonPointImpl(40.0, -105.0),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LatLonPointImpl(42.0, -100.0)),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DateRange(start, end))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// iterat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points.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hasNex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()) {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ucar.nc2.ft.PointFeature pointFeature = points.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nex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(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Location loc = pointFeature.getLocation()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me observ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l requests are in “coordinate space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dicate what subset you want, then request “all at once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set is virtu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ibrary can (try to) optimize the reque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terators over result set” vs List or Arra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sult set does not have to fit into memor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llow streaming data (don’t wait until you have it all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dex vs Coordinate Requ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extBox 3"/>
          <p:cNvSpPr/>
          <p:nvPr/>
        </p:nvSpPr>
        <p:spPr>
          <a:xfrm>
            <a:off x="457200" y="1600200"/>
            <a:ext cx="8001000" cy="10674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float temp(station, time)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float data = temp.read(234,23)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http://server/Metar.dods?temp[234][23]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extBox 5"/>
          <p:cNvSpPr/>
          <p:nvPr/>
        </p:nvSpPr>
        <p:spPr>
          <a:xfrm>
            <a:off x="457200" y="3581280"/>
            <a:ext cx="8001000" cy="17974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http://server/ncss/Metar.nc?var=temp&amp;time=2008-10-28T12:00:00Z&amp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tation=KMD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ELECT temp FROM metar WHERE metar.time= “2008-10-28T12:00:00Z” AND metar.station= “KMDR”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rray data = temp.read(“2008-10-28T12:00:00Z”, “KMDR”)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3050640" y="297180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v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ultidim vs Ragg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TextBox 3"/>
          <p:cNvSpPr/>
          <p:nvPr/>
        </p:nvSpPr>
        <p:spPr>
          <a:xfrm>
            <a:off x="457200" y="1600200"/>
            <a:ext cx="8001000" cy="30142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float temp(sample)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station_index(sample)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(int i=0; i&lt;sample.len; i++) {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station_index(i) == KMDR_index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ata = read(“http:/server/Metar.dods?temp[i]”); // BA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(int i=0; i&lt;sample.len; i++) {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station_index(i) == KMDR_index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indexList.add(i)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http:/server/Metar.dods?temp[2,3,5,78,90,123,456,789] // BETT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5"/>
          <p:cNvSpPr/>
          <p:nvPr/>
        </p:nvSpPr>
        <p:spPr>
          <a:xfrm>
            <a:off x="457200" y="5181480"/>
            <a:ext cx="8001000" cy="3070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http://server/ncss/Metar.nc?var=temp&amp;time=all&amp;station=KMDR // MO BETT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3736440" y="464832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v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ndexed access considered harmf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rolling data archiv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nnot deal with constantly changing datase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s is a contract with the applic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en can you break it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fficult to reconcile with HTTP/OPeNDAP as a  stateless protoco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DS is broken (Shhhh…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TextBox 3"/>
          <p:cNvSpPr/>
          <p:nvPr/>
        </p:nvSpPr>
        <p:spPr>
          <a:xfrm>
            <a:off x="1143000" y="2362320"/>
            <a:ext cx="6705720" cy="8240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float temp(sample=238743874)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float time(sample=238743874)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:units= “secs since 2008-10-28T12:00:00Z”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ere are we going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dexed access ok for local, static, “small” datase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Need new data access paradigm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 large, changing, remote dataset collec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quests in Coordinate Spa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pecify entire subset at once – aka “set at a time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llow parallelism, optimiz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DDS Data Serv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533520" y="3581280"/>
            <a:ext cx="8001000" cy="179892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eatureCollection featureType="FMRC” path="fmrc/NCEP/GFS/CONUS_80km"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collection spec="/data/NCEP/GFS_CONUS_80km_#yyyyMMdd_HHmm#.grib1“/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update startup="true" rescan="0 5 3 * * ? *" trigger="allow"/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protoDataset choice="Penultimate" change="0 2 3 * * ? *" /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fmrcConfig datasetTypes="Best Files Runs ConstantForecasts" /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featureCollectio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59984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ecast Model Run Collection (2D tim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a set of 1D Grid dataset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lace in the TDS Configuration catalog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Content Placeholder 3" descr="fmrc.png"/>
          <p:cNvPicPr/>
          <p:nvPr/>
        </p:nvPicPr>
        <p:blipFill>
          <a:blip r:embed="rId1"/>
          <a:stretch/>
        </p:blipFill>
        <p:spPr>
          <a:xfrm>
            <a:off x="-42840" y="457200"/>
            <a:ext cx="91868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457200" y="16002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cheduled for TDS 4.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figuratio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services to expos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t indexed data acc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ok into Point Feature API on cli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DS Point Feature Collection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TextBox 3"/>
          <p:cNvSpPr/>
          <p:nvPr/>
        </p:nvSpPr>
        <p:spPr>
          <a:xfrm>
            <a:off x="533520" y="2819520"/>
            <a:ext cx="7772400" cy="15858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featureCollection featureType=“STATION” path="nws/metar/ncdecoded "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collection spec="/data/metar/Surface_METAR_#yyyyMMdd_HHmm#.nc$“/&gt;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update startup="true" rescan="0 5 3 * * ? *" trigger="allow"/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protoDataset choice="Penultimate" change="0 2 3 * * ? *" /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featureCollectio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APPER TimeSerie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Dataset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Sequence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Float32 lat;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Float32 lon;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Float32 elev;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Int32 _id;</a:t>
            </a:r>
            <a:br>
              <a:rPr sz="1500"/>
            </a:b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Sequence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 Float32 visibility;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 Float32 max_wind_gust;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 Float32 dewp;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 Float64 time;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 Float32 slp;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 Float32 temp;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 Float32 wind_speed;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 Float32 max_temp;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 Float32 max_sustained_wind_speed;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 Float32 min_temp;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 Float32 precip;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} time_series;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} location; ..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} gsod_time_series;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tCDF-CF propos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DM Point Feature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APP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dmRemo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APPER Conven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wo-level (nested) DAP 2 Sequen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agged Arrays with coordinate subsett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Handles timeSeries and profile FeatureTyp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equires a unique id for each featu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equires lat / lon / z / time coordinat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Handle longitude wrapping? (y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ata variables only in inner sequence, must be floa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Handling of CE on data variables not requir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OPeNDAP spec requir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How does client know what if CE allowed 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APPER Conventions - Analy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Likely easy to hook up to CDM Station/Profile Feature Collection API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eeds to be generalized / clarifi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to handle arbitrary dataset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to support the other Point Feature Type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Not sure who would be in change of standard ?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sult set has fixed layout – makes streaming har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ot accessible through NetCDF API – who are the clients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AP 2 cant transport NetCDF-4 / CDM data mod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Shared Dimensions, Groups, enums, longs, chars, etc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DAP 4 where are you?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Doesn’t have a general coordinate system mechanism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etCDF Subset Service (4.0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xperiment with REST style web servic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llow to subset the dataset by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Lat/lon bounding box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time and vertical coordinate range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list of Variable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Gridded Dat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Output is NetCDF –CF file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Variation of WCS (simplified request protocol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Grid as Point Datase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Extract vertical profile, time series from one point in model data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Output: NetCDF-CF, XML, CSV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ried to use for point datase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NetCDF cant be streame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Quite slow for large data collection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cstream (4.1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NetCDF files (almost always) have to be written, then copied to network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ssumes random access, not strea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ad optimized” :  data layout is know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ncstream explores what “streaming netcdf” might look lik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rite-optimized”: append onl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fficient conversion to netCDF files on the clien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Ncstream data model == CDM data model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Binary encoding using Google's </a:t>
            </a:r>
            <a:r>
              <a:rPr b="0" lang="en-US" sz="25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Protobuf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3" marL="8002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inary object serialization, cross language, transport nuetral, extensi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8002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Very fast: some tests show &gt;10x OPeNDA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Have experimental versions in CDM and TDS since 4.1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dmRemote web services (4.2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llow on to Netcdf Subset Serv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oint Feature datase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e ncstream for the OTW protoco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CDM, TDS since version 4.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to add FeatureCollection configur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Content Placeholder 3" descr="cdmremoteForm.png"/>
          <p:cNvPicPr/>
          <p:nvPr/>
        </p:nvPicPr>
        <p:blipFill>
          <a:blip r:embed="rId1"/>
          <a:stretch/>
        </p:blipFill>
        <p:spPr>
          <a:xfrm>
            <a:off x="685800" y="-609480"/>
            <a:ext cx="8042400" cy="767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3"/>
          <p:cNvSpPr/>
          <p:nvPr/>
        </p:nvSpPr>
        <p:spPr>
          <a:xfrm>
            <a:off x="304920" y="1143000"/>
            <a:ext cx="8229600" cy="495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ccessing Point Feature Collec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AutoShape 5"/>
          <p:cNvSpPr/>
          <p:nvPr/>
        </p:nvSpPr>
        <p:spPr>
          <a:xfrm>
            <a:off x="1523880" y="5105520"/>
            <a:ext cx="1828800" cy="1066680"/>
          </a:xfrm>
          <a:prstGeom prst="flowChartMagneticDisk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Text Box 2"/>
          <p:cNvSpPr/>
          <p:nvPr/>
        </p:nvSpPr>
        <p:spPr>
          <a:xfrm>
            <a:off x="990720" y="1676520"/>
            <a:ext cx="3047760" cy="3276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TD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4" name="AutoShape 25"/>
          <p:cNvCxnSpPr>
            <a:stCxn id="135" idx="2"/>
            <a:endCxn id="132" idx="1"/>
          </p:cNvCxnSpPr>
          <p:nvPr/>
        </p:nvCxnSpPr>
        <p:spPr>
          <a:xfrm flipH="1">
            <a:off x="2437560" y="4147920"/>
            <a:ext cx="8028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6" name="Text Box 11"/>
          <p:cNvSpPr/>
          <p:nvPr/>
        </p:nvSpPr>
        <p:spPr>
          <a:xfrm>
            <a:off x="1523880" y="3429000"/>
            <a:ext cx="1930680" cy="2764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Coordinate Syste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Text Box 13"/>
          <p:cNvSpPr/>
          <p:nvPr/>
        </p:nvSpPr>
        <p:spPr>
          <a:xfrm>
            <a:off x="1295280" y="3886200"/>
            <a:ext cx="2444760" cy="261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Data Access 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7" name="AutoShape 14"/>
          <p:cNvCxnSpPr>
            <a:stCxn id="138" idx="2"/>
            <a:endCxn id="136" idx="0"/>
          </p:cNvCxnSpPr>
          <p:nvPr/>
        </p:nvCxnSpPr>
        <p:spPr>
          <a:xfrm>
            <a:off x="2437200" y="3205080"/>
            <a:ext cx="51480" cy="22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9" name="AutoShape 15"/>
          <p:cNvCxnSpPr>
            <a:stCxn id="136" idx="2"/>
            <a:endCxn id="135" idx="0"/>
          </p:cNvCxnSpPr>
          <p:nvPr/>
        </p:nvCxnSpPr>
        <p:spPr>
          <a:xfrm>
            <a:off x="2489040" y="3704760"/>
            <a:ext cx="29520" cy="181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Box 73"/>
          <p:cNvSpPr/>
          <p:nvPr/>
        </p:nvSpPr>
        <p:spPr>
          <a:xfrm>
            <a:off x="4426200" y="2666880"/>
            <a:ext cx="1181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cdmRemot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Text Box 3"/>
          <p:cNvSpPr/>
          <p:nvPr/>
        </p:nvSpPr>
        <p:spPr>
          <a:xfrm>
            <a:off x="1752480" y="2743200"/>
            <a:ext cx="1371600" cy="459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CDM Point Feature AP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1" name="Group 16"/>
          <p:cNvGrpSpPr/>
          <p:nvPr/>
        </p:nvGrpSpPr>
        <p:grpSpPr>
          <a:xfrm>
            <a:off x="5791320" y="1676520"/>
            <a:ext cx="2514600" cy="3352680"/>
            <a:chOff x="5791320" y="1676520"/>
            <a:chExt cx="2514600" cy="3352680"/>
          </a:xfrm>
        </p:grpSpPr>
        <p:sp>
          <p:nvSpPr>
            <p:cNvPr id="142" name="Text Box 2"/>
            <p:cNvSpPr/>
            <p:nvPr/>
          </p:nvSpPr>
          <p:spPr>
            <a:xfrm>
              <a:off x="5791320" y="1676520"/>
              <a:ext cx="2514600" cy="335268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Java Clien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TextBox 59"/>
            <p:cNvSpPr/>
            <p:nvPr/>
          </p:nvSpPr>
          <p:spPr>
            <a:xfrm>
              <a:off x="6172200" y="3200400"/>
              <a:ext cx="1371600" cy="1191240"/>
            </a:xfrm>
            <a:prstGeom prst="rect">
              <a:avLst/>
            </a:prstGeom>
            <a:solidFill>
              <a:srgbClr val="fcd5b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lication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Text Box 3"/>
            <p:cNvSpPr/>
            <p:nvPr/>
          </p:nvSpPr>
          <p:spPr>
            <a:xfrm>
              <a:off x="6172200" y="2743200"/>
              <a:ext cx="1371600" cy="4590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alibri"/>
                </a:rPr>
                <a:t>CDM Point Feature API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5" name="Group 30"/>
          <p:cNvGrpSpPr/>
          <p:nvPr/>
        </p:nvGrpSpPr>
        <p:grpSpPr>
          <a:xfrm>
            <a:off x="3123720" y="2209680"/>
            <a:ext cx="5563080" cy="3353040"/>
            <a:chOff x="3123720" y="2209680"/>
            <a:chExt cx="5563080" cy="3353040"/>
          </a:xfrm>
        </p:grpSpPr>
        <p:grpSp>
          <p:nvGrpSpPr>
            <p:cNvPr id="146" name="Group 17"/>
            <p:cNvGrpSpPr/>
            <p:nvPr/>
          </p:nvGrpSpPr>
          <p:grpSpPr>
            <a:xfrm>
              <a:off x="6172200" y="2209680"/>
              <a:ext cx="2514600" cy="3353040"/>
              <a:chOff x="6172200" y="2209680"/>
              <a:chExt cx="2514600" cy="3353040"/>
            </a:xfrm>
          </p:grpSpPr>
          <p:sp>
            <p:nvSpPr>
              <p:cNvPr id="147" name="Text Box 2"/>
              <p:cNvSpPr/>
              <p:nvPr/>
            </p:nvSpPr>
            <p:spPr>
              <a:xfrm>
                <a:off x="6172200" y="2209680"/>
                <a:ext cx="2514600" cy="3353040"/>
              </a:xfrm>
              <a:prstGeom prst="rect">
                <a:avLst/>
              </a:prstGeom>
              <a:solidFill>
                <a:srgbClr val="cc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C Client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8" name="TextBox 24"/>
              <p:cNvSpPr/>
              <p:nvPr/>
            </p:nvSpPr>
            <p:spPr>
              <a:xfrm>
                <a:off x="6553080" y="3733920"/>
                <a:ext cx="1371600" cy="1191240"/>
              </a:xfrm>
              <a:prstGeom prst="rect">
                <a:avLst/>
              </a:prstGeom>
              <a:solidFill>
                <a:srgbClr val="fcd5b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Application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9" name="Text Box 3"/>
              <p:cNvSpPr/>
              <p:nvPr/>
            </p:nvSpPr>
            <p:spPr>
              <a:xfrm>
                <a:off x="6553080" y="3276360"/>
                <a:ext cx="1371600" cy="45900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alibri"/>
                  </a:rPr>
                  <a:t>CDM Point Feature API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cxnSp>
          <p:nvCxnSpPr>
            <p:cNvPr id="150" name="AutoShape 19"/>
            <p:cNvCxnSpPr>
              <a:endCxn id="149" idx="1"/>
            </p:cNvCxnSpPr>
            <p:nvPr/>
          </p:nvCxnSpPr>
          <p:spPr>
            <a:xfrm>
              <a:off x="3123720" y="3124080"/>
              <a:ext cx="3429720" cy="383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</p:grpSp>
      <p:cxnSp>
        <p:nvCxnSpPr>
          <p:cNvPr id="151" name="AutoShape 19"/>
          <p:cNvCxnSpPr>
            <a:stCxn id="138" idx="3"/>
            <a:endCxn id="144" idx="1"/>
          </p:cNvCxnSpPr>
          <p:nvPr/>
        </p:nvCxnSpPr>
        <p:spPr>
          <a:xfrm>
            <a:off x="3123720" y="2972880"/>
            <a:ext cx="304884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ssibility: CdmRemote Serv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ightweight server for CDM datase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Zero configur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cal filesyst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ache expensive obje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Java and C cli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llow non-Java applications access to CDM stac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ordinate space quer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Virtual datase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eature Typ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3"/>
          <p:cNvSpPr/>
          <p:nvPr/>
        </p:nvSpPr>
        <p:spPr>
          <a:xfrm>
            <a:off x="304920" y="1143000"/>
            <a:ext cx="8229600" cy="495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 library – enable other languag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AutoShape 5"/>
          <p:cNvSpPr/>
          <p:nvPr/>
        </p:nvSpPr>
        <p:spPr>
          <a:xfrm>
            <a:off x="3886200" y="5029200"/>
            <a:ext cx="1828800" cy="1066680"/>
          </a:xfrm>
          <a:prstGeom prst="flowChartMagneticDisk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Text Box 2"/>
          <p:cNvSpPr/>
          <p:nvPr/>
        </p:nvSpPr>
        <p:spPr>
          <a:xfrm>
            <a:off x="990720" y="1676520"/>
            <a:ext cx="3047760" cy="3276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cdmRemote Serv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8" name="AutoShape 25"/>
          <p:cNvCxnSpPr>
            <a:stCxn id="159" idx="2"/>
            <a:endCxn id="156" idx="2"/>
          </p:cNvCxnSpPr>
          <p:nvPr/>
        </p:nvCxnSpPr>
        <p:spPr>
          <a:xfrm>
            <a:off x="2516760" y="4147920"/>
            <a:ext cx="1369080" cy="1415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0" name="Text Box 11"/>
          <p:cNvSpPr/>
          <p:nvPr/>
        </p:nvSpPr>
        <p:spPr>
          <a:xfrm>
            <a:off x="1523880" y="3429000"/>
            <a:ext cx="1930680" cy="2764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Coordinate Syste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Text Box 13"/>
          <p:cNvSpPr/>
          <p:nvPr/>
        </p:nvSpPr>
        <p:spPr>
          <a:xfrm>
            <a:off x="1295280" y="3886200"/>
            <a:ext cx="2444760" cy="261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Data Access 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1" name="AutoShape 14"/>
          <p:cNvCxnSpPr>
            <a:stCxn id="162" idx="2"/>
            <a:endCxn id="160" idx="0"/>
          </p:cNvCxnSpPr>
          <p:nvPr/>
        </p:nvCxnSpPr>
        <p:spPr>
          <a:xfrm>
            <a:off x="2437200" y="3205080"/>
            <a:ext cx="51480" cy="22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3" name="AutoShape 15"/>
          <p:cNvCxnSpPr>
            <a:stCxn id="160" idx="2"/>
            <a:endCxn id="159" idx="0"/>
          </p:cNvCxnSpPr>
          <p:nvPr/>
        </p:nvCxnSpPr>
        <p:spPr>
          <a:xfrm>
            <a:off x="2489040" y="3704760"/>
            <a:ext cx="29520" cy="181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4" name="Text Box 2"/>
          <p:cNvSpPr/>
          <p:nvPr/>
        </p:nvSpPr>
        <p:spPr>
          <a:xfrm>
            <a:off x="5791320" y="2209680"/>
            <a:ext cx="2514600" cy="27432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C Cli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Box 59"/>
          <p:cNvSpPr/>
          <p:nvPr/>
        </p:nvSpPr>
        <p:spPr>
          <a:xfrm>
            <a:off x="6172200" y="3200400"/>
            <a:ext cx="1371600" cy="1191240"/>
          </a:xfrm>
          <a:prstGeom prst="rect">
            <a:avLst/>
          </a:prstGeom>
          <a:solidFill>
            <a:srgbClr val="fcd5b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TextBox 73"/>
          <p:cNvSpPr/>
          <p:nvPr/>
        </p:nvSpPr>
        <p:spPr>
          <a:xfrm>
            <a:off x="4426200" y="2666880"/>
            <a:ext cx="1181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cdmRemot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7" name="AutoShape 19"/>
          <p:cNvCxnSpPr>
            <a:stCxn id="162" idx="3"/>
            <a:endCxn id="168" idx="1"/>
          </p:cNvCxnSpPr>
          <p:nvPr/>
        </p:nvCxnSpPr>
        <p:spPr>
          <a:xfrm>
            <a:off x="3123720" y="2972880"/>
            <a:ext cx="304884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62" name="Text Box 3"/>
          <p:cNvSpPr/>
          <p:nvPr/>
        </p:nvSpPr>
        <p:spPr>
          <a:xfrm>
            <a:off x="1752480" y="2743200"/>
            <a:ext cx="1371600" cy="459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CDM Point Feature AP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6172200" y="2743200"/>
            <a:ext cx="1371600" cy="459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CDM Point Feature AP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9" name="AutoShape 25"/>
          <p:cNvCxnSpPr>
            <a:stCxn id="165" idx="2"/>
            <a:endCxn id="156" idx="4"/>
          </p:cNvCxnSpPr>
          <p:nvPr/>
        </p:nvCxnSpPr>
        <p:spPr>
          <a:xfrm flipH="1">
            <a:off x="5714280" y="4400640"/>
            <a:ext cx="114372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0" name="TextBox 26"/>
          <p:cNvSpPr/>
          <p:nvPr/>
        </p:nvSpPr>
        <p:spPr>
          <a:xfrm>
            <a:off x="5791320" y="1600200"/>
            <a:ext cx="2438280" cy="581400"/>
          </a:xfrm>
          <a:prstGeom prst="rect">
            <a:avLst/>
          </a:prstGeom>
          <a:solidFill>
            <a:srgbClr val="92d050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ython /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Discrete Sampling CF Conventions almost ready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CDM Point Feature API ready for testing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DS Point Feature Collections almost ready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ing cdmRemote / ncstrea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eeds catalog configuration mechanis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Need new APIs : what should they be?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at are the client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nidata is evaluating new APIs in C using ncstream as IPC  to Java services in another 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y add Python to our list, as resources permi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pen to other solutions, as resources permi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F propos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ncode common “discrete sampling” data collections into NetCDF classic model / netCDF-3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posal to CF Conven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iscrete Sampling Geometries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John Caron, Steve Hankin, Jonathan Gregor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5 pages, 2 years and counting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ersion 1 Real Soon Now (really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s://cf-pcmdi.llnl.gov/trac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S: Can you say SQ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7200" y="3962520"/>
            <a:ext cx="8229600" cy="216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Jim Gray: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“Scientific Data Management in the Coming Decade”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ichael Stonebraker: SciDB (http://scidb.org/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rray oriented data model – extends relational tabl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seable release in Jan 201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valuating participating in this effor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Content Placeholder 2"/>
          <p:cNvSpPr/>
          <p:nvPr/>
        </p:nvSpPr>
        <p:spPr>
          <a:xfrm>
            <a:off x="1676520" y="1676520"/>
            <a:ext cx="6172200" cy="1828800"/>
          </a:xfrm>
          <a:prstGeom prst="rect">
            <a:avLst/>
          </a:prstGeom>
          <a:solidFill>
            <a:srgbClr val="ddd9c3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ew Data Access API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quests in Coordinate Sp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pecify entire subset at once – aka “set at a time”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llow parallelism, optimiz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HREDDS/CDM Developers Conferenc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vitational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how related work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Launch Open Source projec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teering Committe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Broader than Unidat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all 2011 (?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SS4G conference in Denver (Sep 12)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OGC Technical Committee / Boulder (Sep 19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iscrete Sampling Data encod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coding varia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ultidimensional array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tiguous Ragged Array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dexed Ragged Array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ngle Feature in a fi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ke it easy / efficient to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ad a Feature from a fi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bset the collection by space and ti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iscrete Sample Feature Typ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point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: a collection of data points with no connection in time and spac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timeSeries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: a series of data points at the same location, with varying tim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trajectory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: a series of data points along a curve in time and spac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profile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: a set of data points along a vertical lin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timeSeriesProfile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: a series of profiles at the same location, with varying tim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trajectoryProfile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: a set of profiles which originate from points along a trajectory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DM Implemen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Have a working implementation of the entire proposal in CDM 4.2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ome minor changes not yet mad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Beta: needs user test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Not entirely happy with the API (complexity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Based on “Nested Table” abstraction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ommon representat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rrayStructure, Construct, Contiguous, LinkedList, MultidimInner, MultidimInner3D, MultidimInnerPsuedo, MultidimInnerPsuedo3D, MultidimStructure, NestedStructure, ParentId, ParentIndex, Singleton, Structure, To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ML configuration possible – easy to add new datase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able Configurer Plug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UF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F Conven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smi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EMPAK Poi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RIDL station (IRI/LDEO Climate Data Librar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Jason (NASA Ocean Surface Topography Mission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SL Wind Profil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ADIS ACA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ADIS surface observ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BDC (National Buoy Data Center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CAR-RAF/nimbu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LDN (National Lightning Data Network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uomi-St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nidata Observation Dataset Conven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4267080" y="3124080"/>
            <a:ext cx="4572000" cy="368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etcdfDatas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Oval 3"/>
          <p:cNvSpPr/>
          <p:nvPr/>
        </p:nvSpPr>
        <p:spPr>
          <a:xfrm>
            <a:off x="4267080" y="304920"/>
            <a:ext cx="1600200" cy="6858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7" name="AutoShape 4"/>
          <p:cNvCxnSpPr>
            <a:stCxn id="56" idx="3"/>
            <a:endCxn id="58" idx="3"/>
          </p:cNvCxnSpPr>
          <p:nvPr/>
        </p:nvCxnSpPr>
        <p:spPr>
          <a:xfrm flipH="1">
            <a:off x="3733560" y="890280"/>
            <a:ext cx="768960" cy="594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Text Box 7"/>
          <p:cNvSpPr/>
          <p:nvPr/>
        </p:nvSpPr>
        <p:spPr>
          <a:xfrm>
            <a:off x="228600" y="1295280"/>
            <a:ext cx="3505320" cy="368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oint Feature AP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Line 9"/>
          <p:cNvSpPr/>
          <p:nvPr/>
        </p:nvSpPr>
        <p:spPr>
          <a:xfrm>
            <a:off x="6095880" y="3505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Line 10"/>
          <p:cNvSpPr/>
          <p:nvPr/>
        </p:nvSpPr>
        <p:spPr>
          <a:xfrm>
            <a:off x="6095880" y="41148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 Box 12"/>
          <p:cNvSpPr/>
          <p:nvPr/>
        </p:nvSpPr>
        <p:spPr>
          <a:xfrm>
            <a:off x="5867280" y="1371600"/>
            <a:ext cx="2819520" cy="101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DM architectu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oint Feature Typ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 Box 18"/>
          <p:cNvSpPr/>
          <p:nvPr/>
        </p:nvSpPr>
        <p:spPr>
          <a:xfrm>
            <a:off x="5562720" y="5562720"/>
            <a:ext cx="1447560" cy="36828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etCDF-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 Box 19"/>
          <p:cNvSpPr/>
          <p:nvPr/>
        </p:nvSpPr>
        <p:spPr>
          <a:xfrm>
            <a:off x="8381880" y="518148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 Box 21"/>
          <p:cNvSpPr/>
          <p:nvPr/>
        </p:nvSpPr>
        <p:spPr>
          <a:xfrm>
            <a:off x="6172200" y="5029200"/>
            <a:ext cx="2819520" cy="36828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/O service provid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 Box 22"/>
          <p:cNvSpPr/>
          <p:nvPr/>
        </p:nvSpPr>
        <p:spPr>
          <a:xfrm>
            <a:off x="8153280" y="6095880"/>
            <a:ext cx="838440" cy="36828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RI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8153280" y="5562720"/>
            <a:ext cx="838440" cy="36828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ID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7" name="AutoShape 25"/>
          <p:cNvCxnSpPr>
            <a:stCxn id="64" idx="2"/>
            <a:endCxn id="65" idx="1"/>
          </p:cNvCxnSpPr>
          <p:nvPr/>
        </p:nvCxnSpPr>
        <p:spPr>
          <a:xfrm flipH="1" rot="16200000">
            <a:off x="7426800" y="5559120"/>
            <a:ext cx="880200" cy="572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AutoShape 27"/>
          <p:cNvCxnSpPr>
            <a:stCxn id="64" idx="2"/>
            <a:endCxn id="66" idx="1"/>
          </p:cNvCxnSpPr>
          <p:nvPr/>
        </p:nvCxnSpPr>
        <p:spPr>
          <a:xfrm flipH="1" rot="16200000">
            <a:off x="7693560" y="5292360"/>
            <a:ext cx="346680" cy="572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Text Box 28"/>
          <p:cNvSpPr/>
          <p:nvPr/>
        </p:nvSpPr>
        <p:spPr>
          <a:xfrm>
            <a:off x="4267080" y="4343400"/>
            <a:ext cx="4800600" cy="368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etcdf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Line 29"/>
          <p:cNvSpPr/>
          <p:nvPr/>
        </p:nvSpPr>
        <p:spPr>
          <a:xfrm>
            <a:off x="7696080" y="4724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5486400" y="6095880"/>
            <a:ext cx="1295280" cy="368280"/>
          </a:xfrm>
          <a:prstGeom prst="rect">
            <a:avLst/>
          </a:prstGeom>
          <a:gradFill rotWithShape="0">
            <a:gsLst>
              <a:gs pos="0">
                <a:srgbClr val="76475e"/>
              </a:gs>
              <a:gs pos="50000">
                <a:srgbClr val="ff99cc"/>
              </a:gs>
              <a:gs pos="100000">
                <a:srgbClr val="76475e"/>
              </a:gs>
            </a:gsLst>
            <a:lin ang="5400000"/>
          </a:gradFill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etCDF-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Line 31"/>
          <p:cNvSpPr/>
          <p:nvPr/>
        </p:nvSpPr>
        <p:spPr>
          <a:xfrm flipH="1">
            <a:off x="6781320" y="63244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Line 32"/>
          <p:cNvSpPr/>
          <p:nvPr/>
        </p:nvSpPr>
        <p:spPr>
          <a:xfrm flipH="1">
            <a:off x="7010280" y="57150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 Box 34"/>
          <p:cNvSpPr/>
          <p:nvPr/>
        </p:nvSpPr>
        <p:spPr>
          <a:xfrm>
            <a:off x="6629400" y="63244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Text Box 39"/>
          <p:cNvSpPr/>
          <p:nvPr/>
        </p:nvSpPr>
        <p:spPr>
          <a:xfrm>
            <a:off x="5029200" y="3733920"/>
            <a:ext cx="2362320" cy="36828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ordSystem Build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ext Box 40"/>
          <p:cNvSpPr/>
          <p:nvPr/>
        </p:nvSpPr>
        <p:spPr>
          <a:xfrm>
            <a:off x="533520" y="2133720"/>
            <a:ext cx="3200400" cy="36828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atatype Adapt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Line 42"/>
          <p:cNvSpPr/>
          <p:nvPr/>
        </p:nvSpPr>
        <p:spPr>
          <a:xfrm>
            <a:off x="1981080" y="1676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Line 43"/>
          <p:cNvSpPr/>
          <p:nvPr/>
        </p:nvSpPr>
        <p:spPr>
          <a:xfrm>
            <a:off x="3733920" y="2362320"/>
            <a:ext cx="99036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ext Box 18"/>
          <p:cNvSpPr/>
          <p:nvPr/>
        </p:nvSpPr>
        <p:spPr>
          <a:xfrm>
            <a:off x="2133720" y="2819520"/>
            <a:ext cx="990360" cy="36828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UF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Text Box 22"/>
          <p:cNvSpPr/>
          <p:nvPr/>
        </p:nvSpPr>
        <p:spPr>
          <a:xfrm>
            <a:off x="2209680" y="3581280"/>
            <a:ext cx="990720" cy="6426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EMPA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Text Box 24"/>
          <p:cNvSpPr/>
          <p:nvPr/>
        </p:nvSpPr>
        <p:spPr>
          <a:xfrm>
            <a:off x="2209680" y="4267080"/>
            <a:ext cx="1067040" cy="36828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F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2" name="AutoShape 25"/>
          <p:cNvCxnSpPr/>
          <p:nvPr/>
        </p:nvCxnSpPr>
        <p:spPr>
          <a:xfrm rot="5400000">
            <a:off x="2840760" y="3101760"/>
            <a:ext cx="109944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3" name="AutoShape 27"/>
          <p:cNvCxnSpPr>
            <a:endCxn id="81" idx="3"/>
          </p:cNvCxnSpPr>
          <p:nvPr/>
        </p:nvCxnSpPr>
        <p:spPr>
          <a:xfrm rot="5400000">
            <a:off x="2421720" y="3368520"/>
            <a:ext cx="193752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4" name="Line 32"/>
          <p:cNvSpPr/>
          <p:nvPr/>
        </p:nvSpPr>
        <p:spPr>
          <a:xfrm flipH="1">
            <a:off x="3123720" y="29718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 Box 34"/>
          <p:cNvSpPr/>
          <p:nvPr/>
        </p:nvSpPr>
        <p:spPr>
          <a:xfrm>
            <a:off x="2514600" y="548640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ext Box 24"/>
          <p:cNvSpPr/>
          <p:nvPr/>
        </p:nvSpPr>
        <p:spPr>
          <a:xfrm>
            <a:off x="2209680" y="4952880"/>
            <a:ext cx="1067040" cy="36828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SMI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7" name="AutoShape 27"/>
          <p:cNvCxnSpPr/>
          <p:nvPr/>
        </p:nvCxnSpPr>
        <p:spPr>
          <a:xfrm rot="5400000">
            <a:off x="2574360" y="4206600"/>
            <a:ext cx="170892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Left Brace 80"/>
          <p:cNvSpPr/>
          <p:nvPr/>
        </p:nvSpPr>
        <p:spPr>
          <a:xfrm>
            <a:off x="1676520" y="2743200"/>
            <a:ext cx="304560" cy="2819520"/>
          </a:xfrm>
          <a:custGeom>
            <a:avLst/>
            <a:gdLst>
              <a:gd name="textAreaLeft" fmla="*/ 194760 w 304560"/>
              <a:gd name="textAreaRight" fmla="*/ 304920 w 304560"/>
              <a:gd name="textAreaTop" fmla="*/ 43200 h 2819520"/>
              <a:gd name="textAreaBottom" fmla="*/ 2776320 h 2819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532"/>
                  <a:pt x="10800" y="1063"/>
                </a:cubicBezTo>
                <a:lnTo>
                  <a:pt x="10800" y="9800"/>
                </a:lnTo>
                <a:cubicBezTo>
                  <a:pt x="10800" y="10332"/>
                  <a:pt x="5400" y="10863"/>
                  <a:pt x="0" y="10863"/>
                </a:cubicBezTo>
                <a:cubicBezTo>
                  <a:pt x="5400" y="10863"/>
                  <a:pt x="10800" y="11395"/>
                  <a:pt x="10800" y="11926"/>
                </a:cubicBezTo>
                <a:lnTo>
                  <a:pt x="10800" y="20537"/>
                </a:lnTo>
                <a:cubicBezTo>
                  <a:pt x="10800" y="2106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81"/>
          <p:cNvSpPr/>
          <p:nvPr/>
        </p:nvSpPr>
        <p:spPr>
          <a:xfrm>
            <a:off x="360" y="3657600"/>
            <a:ext cx="172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able Configur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gi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3" descr="PointFeatureTypes.png"/>
          <p:cNvPicPr/>
          <p:nvPr/>
        </p:nvPicPr>
        <p:blipFill>
          <a:blip r:embed="rId1"/>
          <a:stretch/>
        </p:blipFill>
        <p:spPr>
          <a:xfrm>
            <a:off x="-152280" y="-228600"/>
            <a:ext cx="9370800" cy="8298000"/>
          </a:xfrm>
          <a:prstGeom prst="rect">
            <a:avLst/>
          </a:prstGeom>
          <a:ln w="0">
            <a:noFill/>
          </a:ln>
        </p:spPr>
      </p:pic>
      <p:sp>
        <p:nvSpPr>
          <p:cNvPr id="91" name="TextBox 4"/>
          <p:cNvSpPr/>
          <p:nvPr/>
        </p:nvSpPr>
        <p:spPr>
          <a:xfrm>
            <a:off x="7014240" y="152280"/>
            <a:ext cx="18954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DM PointFeatu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M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1T14:30:36Z</dcterms:created>
  <dc:creator>caron</dc:creator>
  <dc:description/>
  <dc:language>en-US</dc:language>
  <cp:lastModifiedBy>Lewis McCulloch</cp:lastModifiedBy>
  <dcterms:modified xsi:type="dcterms:W3CDTF">2010-11-30T12:57:28Z</dcterms:modified>
  <cp:revision>43</cp:revision>
  <dc:subject/>
  <dc:title>Point Data</dc:title>
</cp:coreProperties>
</file>